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927B-BBEF-45BF-91D1-9FB72341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1126-111E-46D0-AC86-3BB28A4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7435-20C3-4744-ABE9-FDE2D988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520AD-85C2-4E37-AB2A-19CF2A66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CEC5-3AE1-41FF-9B7F-62199040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E8A5-F9DA-49F4-B9AC-DFC2EF76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DA1F-309A-476C-9CC2-1C140C1F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2179-B7A0-4E4A-A020-9A3D04E2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9C12-86F9-4514-AB7F-0E9AA5FE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8764-E7D6-42B1-A9DE-4F1415BC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B09B-3E0C-45B8-A04F-7516735B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9C32-04BC-4AFD-9EF6-00E3C833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F985-BD4D-4B0D-ACB3-AA9CBEA7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62E2-AA29-4D18-AE9E-27A9E11D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9CA7-3DD3-46BA-888C-51349CF4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982A-3415-4F5B-B364-4ADA545E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0C92-104B-4C07-BCB0-E3B5CB5E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1283-4A2D-4550-AC6F-63AEA18D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BA90-0482-4DEC-97E3-329250D1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3DB4-D19C-4958-AC58-1B2702AD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867B-D063-40A9-AC59-54740DDB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51D7-94CC-4CF3-AF8E-148096C3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0E39-5B93-4E19-8411-12D59D5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0BFF-3899-44E9-BBF4-572684D5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202B-7261-4DB6-AD6C-59ABC0BC81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D1B3-887E-4C8A-A7D3-89E3A5B727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바탕"/>
              </a:rPr>
              <a:t>“</a:t>
            </a:r>
            <a:r>
              <a:rPr b="1" lang="en-US" sz="6000" spc="-1" strike="noStrike">
                <a:solidFill>
                  <a:srgbClr val="e5e5ff"/>
                </a:solidFill>
                <a:latin typeface="바탕"/>
              </a:rPr>
              <a:t>Trifles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usan Glaspe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2048040"/>
            <a:ext cx="3352680" cy="245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041480" cy="162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174680" cy="147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0" t="11249" r="0" b="0"/>
          <a:stretch/>
        </p:blipFill>
        <p:spPr>
          <a:xfrm>
            <a:off x="7238880" y="4754520"/>
            <a:ext cx="1511280" cy="1443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658280" y="457200"/>
            <a:ext cx="78408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6960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4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r. &amp; Mrs. H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rge Clooney and Julianne Mo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orge is a versatile actor and one of my favori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lianne is an excellent actress, middle aged and not as thin as Mrs. Pet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76520" y="35053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38680" y="3505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eriff &amp; Mrs. P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aron Eckhart and Nicole Kid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Aaron because he is middle aged and reminds me of a sheriff in this pict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Nicole because she is thin and wiry as Mrs. Peters is describ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2104920" cy="21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nty Attorney, Mr. Hender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in Farr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Colin because he is young, has a professional appearance as a lawyer and he played a very good detective in the movie “Minority Report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324160" cy="3486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r. &amp; Mrs. Wrig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hony Hopkins and Kathy B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Kathy because she is such a versatile actress and she was awesome in “Misery”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hony is one of my favorite actors.  He is very versatile and talented and I loved his characters in “Meet Joe Black” and “Silence of the Lambs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3276720"/>
            <a:ext cx="2503440" cy="3105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2667240" cy="2819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ng Sel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ung Up” by Madonna – Because Mr. Wright was hung by a rop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ck and Tired” by Everclear – Obviously Mrs. Wright was sick and tired of her life with a hard man that degraded 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cture to Burn” by Taylor Swift – Because of the lyrics, “there’s no time for tears, I’m just sitting here planning my revenge, there’s nothing stopping me.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ue on Black” by Kenny Wayne Shepherd – Because of a line in the chorus,  “a dead man’s touch” and “wrong can’t be undone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n a Woman’s Fed Up” by R Kelly – Because she was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the images that I chose were mentioned in the play.  Mrs. Wright had a singing canary, canned preserves, quilted, and her husband was murdered by a rope.  The picture of the farm house was a realistic image especially because it had a second floor.  Mr. Wright was murdered in the upstairs bedroom.  I think these images would attract movie go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1:54:41Z</dcterms:created>
  <dc:creator>Lowe family</dc:creator>
  <dc:description/>
  <dc:language>en-US</dc:language>
  <cp:lastModifiedBy>Lowe family</cp:lastModifiedBy>
  <dcterms:modified xsi:type="dcterms:W3CDTF">2008-04-06T19:32:44Z</dcterms:modified>
  <cp:revision>21</cp:revision>
  <dc:subject/>
  <dc:title>“Trifles”</dc:title>
</cp:coreProperties>
</file>